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071-0A4D-4E90-8E53-43BB1D36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33D-A6C4-4721-91ED-5DDFB5C0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5D2-6891-47BC-909E-861134DE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1B7-7724-4364-B80D-7E9F4FC2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EA2-B3F3-441D-8AD9-3D4CFCAF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758-2B6F-46C8-B0ED-37091E64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5A8-A852-4D6A-A431-EBECACD2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DBB-3E2D-40D7-B3DF-535CC2BE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98F-425E-4B8C-924C-648F791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6AE-2349-4EC0-B646-2A553EF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C35-4585-4B18-B819-0961F72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306-4D09-497E-8B8D-7A0CAF1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236-C3AB-473A-AEEA-FC1E3811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 5 de may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fue Emiliano Zap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Arial"/>
              </a:rPr>
              <a:t>L.O: to learn about Emiliano Za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Tomar </a:t>
            </a:r>
            <a:r>
              <a:rPr b="1" lang="es-ES_tradnl" sz="3200" spc="-1" strike="noStrike" u="sng">
                <a:solidFill>
                  <a:srgbClr val="00b050"/>
                </a:solidFill>
                <a:uFillTx/>
                <a:latin typeface="Arial"/>
              </a:rPr>
              <a:t>Quiz 3/4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en oraciones comple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veces, ¿te enfadan tus amig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iempre estas de buen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sonrisa en la cara cuando estas de buen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as triste o contento si recibes una nota m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 te interesa 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 dia de cultura lat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3 (1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cp:lastPrinted>2016-05-05T16:04:52Z</cp:lastPrinted>
  <dcterms:modified xsi:type="dcterms:W3CDTF">2016-05-05T18:43:13Z</dcterms:modified>
  <cp:revision>14</cp:revision>
  <dc:subject/>
  <dc:title>Me llamo ________ Clase 8im La fecha es el 8 de enero del 2013</dc:title>
</cp:coreProperties>
</file>